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8800" cy="5259388"/>
  <p:notesSz cx="68722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4720" y="444240"/>
            <a:ext cx="1608120" cy="920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ctr">
            <a:noAutofit/>
          </a:bodyPr>
          <a:p>
            <a:pPr indent="0"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9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9680" y="1517400"/>
            <a:ext cx="162252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29680" y="3248640"/>
            <a:ext cx="162252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4720" y="444240"/>
            <a:ext cx="1608120" cy="920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ctr">
            <a:noAutofit/>
          </a:bodyPr>
          <a:p>
            <a:pPr indent="0"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9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9680" y="1517400"/>
            <a:ext cx="79164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061280" y="1517400"/>
            <a:ext cx="79164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9680" y="3248640"/>
            <a:ext cx="79164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061280" y="3248640"/>
            <a:ext cx="79164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720" y="444240"/>
            <a:ext cx="1608120" cy="920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ctr">
            <a:noAutofit/>
          </a:bodyPr>
          <a:p>
            <a:pPr indent="0"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9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9680" y="1517400"/>
            <a:ext cx="52236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78680" y="1517400"/>
            <a:ext cx="52236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27320" y="1517400"/>
            <a:ext cx="52236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229680" y="3248640"/>
            <a:ext cx="52236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778680" y="3248640"/>
            <a:ext cx="52236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1327320" y="3248640"/>
            <a:ext cx="52236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4720" y="444240"/>
            <a:ext cx="1608120" cy="920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ctr">
            <a:noAutofit/>
          </a:bodyPr>
          <a:p>
            <a:pPr indent="0"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9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229680" y="1517400"/>
            <a:ext cx="162252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4720" y="444240"/>
            <a:ext cx="1608120" cy="920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ctr">
            <a:noAutofit/>
          </a:bodyPr>
          <a:p>
            <a:pPr indent="0"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9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9680" y="1517400"/>
            <a:ext cx="1622520" cy="331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4720" y="444240"/>
            <a:ext cx="1608120" cy="920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ctr">
            <a:noAutofit/>
          </a:bodyPr>
          <a:p>
            <a:pPr indent="0"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9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9680" y="1517400"/>
            <a:ext cx="791640" cy="331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1280" y="1517400"/>
            <a:ext cx="791640" cy="331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720" y="444240"/>
            <a:ext cx="1608120" cy="920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ctr">
            <a:noAutofit/>
          </a:bodyPr>
          <a:p>
            <a:pPr indent="0"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9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34720" y="444240"/>
            <a:ext cx="1608120" cy="42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4720" y="444240"/>
            <a:ext cx="1608120" cy="920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ctr">
            <a:noAutofit/>
          </a:bodyPr>
          <a:p>
            <a:pPr indent="0"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9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9680" y="1517400"/>
            <a:ext cx="79164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061280" y="1517400"/>
            <a:ext cx="791640" cy="331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29680" y="3248640"/>
            <a:ext cx="79164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4720" y="444240"/>
            <a:ext cx="1608120" cy="920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ctr">
            <a:noAutofit/>
          </a:bodyPr>
          <a:p>
            <a:pPr indent="0"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9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9680" y="1517400"/>
            <a:ext cx="791640" cy="331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061280" y="1517400"/>
            <a:ext cx="79164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61280" y="3248640"/>
            <a:ext cx="79164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4720" y="444240"/>
            <a:ext cx="1608120" cy="920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ctr">
            <a:noAutofit/>
          </a:bodyPr>
          <a:p>
            <a:pPr indent="0"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9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9680" y="1517400"/>
            <a:ext cx="79164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61280" y="1517400"/>
            <a:ext cx="79164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29680" y="3248640"/>
            <a:ext cx="1622520" cy="1580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indent="0">
              <a:spcBef>
                <a:spcPts val="176"/>
              </a:spcBef>
              <a:buNone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9680" y="1517400"/>
            <a:ext cx="1622520" cy="331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9360" bIns="9360" anchor="t">
            <a:normAutofit/>
          </a:bodyPr>
          <a:p>
            <a:pPr marL="71280" indent="-71280">
              <a:spcBef>
                <a:spcPts val="176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>
              <a:spcBef>
                <a:spcPts val="176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lvl="2" marL="299880">
              <a:spcBef>
                <a:spcPts val="176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lvl="3" marL="414360"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lvl="4" marL="52848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lvl="5" marL="52848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lvl="6" marL="52848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34720" y="444240"/>
            <a:ext cx="1608120" cy="92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9080" rIns="19080" tIns="9360" bIns="9360" anchor="ctr">
            <a:noAutofit/>
          </a:bodyPr>
          <a:p>
            <a:pPr indent="0">
              <a:buNone/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9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9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217440" cy="5248440"/>
            <a:chOff x="0" y="0"/>
            <a:chExt cx="217440" cy="524844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17440" cy="524844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15840" y="123840"/>
              <a:ext cx="30240" cy="5018040"/>
              <a:chOff x="15840" y="123840"/>
              <a:chExt cx="30240" cy="5018040"/>
            </a:xfrm>
          </p:grpSpPr>
          <p:sp>
            <p:nvSpPr>
              <p:cNvPr id="5" name=""/>
              <p:cNvSpPr/>
              <p:nvPr/>
            </p:nvSpPr>
            <p:spPr>
              <a:xfrm>
                <a:off x="15840" y="1343160"/>
                <a:ext cx="30240" cy="11880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840" y="1517760"/>
                <a:ext cx="30240" cy="11880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5840" y="1693800"/>
                <a:ext cx="30240" cy="1173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840" y="186840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40" y="204300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40" y="221940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40" y="239400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40" y="2570040"/>
                <a:ext cx="30240" cy="11772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840" y="274464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840" y="291924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840" y="309564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5840" y="327024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5840" y="3446640"/>
                <a:ext cx="30240" cy="1173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840" y="3621240"/>
                <a:ext cx="30240" cy="11880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5840" y="3795840"/>
                <a:ext cx="30240" cy="11880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840" y="397188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840" y="414648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5840" y="4322880"/>
                <a:ext cx="30240" cy="1173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5840" y="4497480"/>
                <a:ext cx="30240" cy="11880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5840" y="467208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5840" y="484812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5840" y="5022720"/>
                <a:ext cx="30240" cy="1191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840" y="123840"/>
                <a:ext cx="30240" cy="1173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840" y="298440"/>
                <a:ext cx="30240" cy="1173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840" y="474840"/>
                <a:ext cx="30240" cy="1173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5840" y="649440"/>
                <a:ext cx="30240" cy="1173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840" y="824040"/>
                <a:ext cx="30240" cy="1173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5840" y="1000080"/>
                <a:ext cx="30240" cy="1173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840" y="1174680"/>
                <a:ext cx="30240" cy="11772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2680" y="122400"/>
            <a:ext cx="17640" cy="16164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4600" y="357120"/>
            <a:ext cx="17640" cy="162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2680" y="592200"/>
            <a:ext cx="17640" cy="162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600" y="824040"/>
            <a:ext cx="17640" cy="16164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2680" y="998640"/>
            <a:ext cx="17640" cy="162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4600" y="1233360"/>
            <a:ext cx="17640" cy="162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800" y="1819440"/>
            <a:ext cx="75600" cy="45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60" y="9"/>
                </a:moveTo>
                <a:arcTo wR="10800" hR="10800" stAng="-5540239" swAng="5540239"/>
                <a:lnTo>
                  <a:pt x="10800" y="10800"/>
                </a:lnTo>
                <a:close/>
              </a:path>
              <a:path fill="none" w="21600" h="21600">
                <a:moveTo>
                  <a:pt x="10360" y="9"/>
                </a:moveTo>
                <a:arcTo wR="10800" hR="10800" stAng="-5540239" swAng="5540239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680" y="1643040"/>
            <a:ext cx="17640" cy="162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600" y="1874880"/>
            <a:ext cx="17640" cy="162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2680" y="2109960"/>
            <a:ext cx="17640" cy="16164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2284560"/>
            <a:ext cx="17640" cy="16344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8520" y="4272120"/>
            <a:ext cx="17640" cy="16164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8760" y="3921120"/>
            <a:ext cx="17280" cy="16344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2680" y="3686040"/>
            <a:ext cx="17640" cy="1638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760" y="3511440"/>
            <a:ext cx="17280" cy="162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60" y="3044880"/>
            <a:ext cx="17280" cy="16344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2680" y="2751120"/>
            <a:ext cx="17640" cy="162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8760" y="4913280"/>
            <a:ext cx="17280" cy="16344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680" y="4678200"/>
            <a:ext cx="17640" cy="1638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600" y="4503600"/>
            <a:ext cx="17640" cy="162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9600" y="4381560"/>
            <a:ext cx="144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60480"/>
            <a:ext cx="147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160" y="38160"/>
            <a:ext cx="15811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5440" y="103320"/>
          <a:ext cx="665280" cy="65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103320"/>
                    <a:ext cx="6652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71360" y="871560"/>
            <a:ext cx="1828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p 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us mont 16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9810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9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581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4191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79f"/>
                </a:solidFill>
                <a:latin typeface="Times New Roman"/>
              </a:rPr>
              <a:t>Cd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619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9e60"/>
                </a:solidFill>
                <a:latin typeface="Times New Roman"/>
              </a:rPr>
              <a:t>200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218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9e60"/>
                </a:solidFill>
                <a:latin typeface="Times New Roman"/>
              </a:rPr>
              <a:t>20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78280" y="-138240"/>
            <a:ext cx="7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0T08:47:16Z</dcterms:created>
  <dc:creator>BEF</dc:creator>
  <dc:description/>
  <dc:language>en-US</dc:language>
  <cp:lastModifiedBy>JOUSSET Eric</cp:lastModifiedBy>
  <cp:lastPrinted>2001-03-24T10:57:49Z</cp:lastPrinted>
  <dcterms:modified xsi:type="dcterms:W3CDTF">2001-12-18T15:04:14Z</dcterms:modified>
  <cp:revision>7</cp:revision>
  <dc:subject/>
  <dc:title>Aucun titre de diapositive</dc:title>
</cp:coreProperties>
</file>